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4880" cy="3834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45720" y="4860720"/>
            <a:ext cx="5203800" cy="46018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sldNum" idx="21"/>
          </p:nvPr>
        </p:nvSpPr>
        <p:spPr>
          <a:xfrm>
            <a:off x="4022280" y="972324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3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72E48-DA22-4524-8C5F-93F846FE95F9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468" name=""/>
          <p:cNvSpPr/>
          <p:nvPr/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470" name=""/>
          <p:cNvSpPr/>
          <p:nvPr/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EFFE25-F1EB-48D3-8C5D-DFFC80B82A4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6C86A8-7673-49F6-A246-230D2D13A47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8BD74E-C2AF-4AEE-A2D1-B506D8F14E2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AA98AC-C57B-4AAF-BF8F-CEB5FC63A76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B89991-6914-41B3-95EC-8CB249471B1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F54507-3803-4F8D-B697-78232C29D53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9DB749-0D64-47EB-A7F0-B321BDB7162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23C5CC-7F9C-41AF-B48F-7C1F0709DD1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B3E754-83BE-4EDF-A3A5-5C19616CF50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D15CE-7FE4-4968-8420-C978600CA5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AA420-D6CC-4DF9-AE3E-16AA6566C3C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555A0-DFD7-4539-B19A-27FF5E758FF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737CE-D0AC-4D8B-8C46-03500284DEE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23CAD-529D-4F07-8026-DBC73FF88BE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CC403-5266-46C7-A773-3BCDD8A3817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B9DAF-6442-4C1E-97A6-70AC18C589D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4316C-53AE-4A88-B517-F8908AEAB9C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654D8-6343-47F7-A5B0-E6C38564315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BAF5D-3B5D-4389-A7A5-4B4CBCB77C5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16BC7-2317-4E15-B7CF-725FAFD45E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D2A04-D73E-413D-ACA7-6DF5C4EE7BD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C5F10E-8EA5-4C68-A930-AFCA237116D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37674A-D02C-4501-995A-952DCF167FA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13ACA5-501E-4897-B40A-E2D2F59AB3B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B6EF4C-DC83-472E-8925-F30C9D3C2E1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C2683C-34E6-4D63-B425-4394153A053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C2B780-D9FF-4793-B0A0-FC8842797DD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BC801B-59BC-4EC2-944D-5A23E32B70A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602055-F319-4066-8867-50DEE3DDBC1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4673C3-CE9B-4DD5-A0E8-BC9B485C93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5DAE0-42CC-4A28-9BB6-193B2840884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CE7DE5-9499-4A57-8D95-F9590F66BD5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74BAC4-E9F7-4712-A358-1DA2E33A3C6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34EF7B-4E2A-46EE-9CA8-D2F452E305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2E44D-FE2C-472C-B3DC-301CC9A84B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369E1-7D66-4FAA-A39A-894F260932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995D3-5B3A-45B9-AEAE-C3EB93CC62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EB37E-F7AC-49B8-94ED-AF3CBE07B0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C024C-452D-4DAC-B9BF-1C2802C461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BBDF9-0100-4F6B-AB69-7A63BE8488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C3E8D-626A-4D88-8ACF-D1CF649AC8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4D92E-225F-4581-9D77-9723A5F3FF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7AD7F-2257-4F65-A2E5-D5F6F7DCC7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325EC-C2EE-48E8-ABC6-BB56A62FA6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52B6A-CD6F-4CAD-B742-5D07EF25E28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F090F-5763-49C6-827F-2B73C3079B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41D9E-B46D-4243-9B60-5AA58B4F2C9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9C5AE-E37C-46CE-A65C-D97A7403E44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3F034-88AD-4DBA-92A3-D48505125C4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87853-81AE-4F8F-90E0-AB29C54158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BE589-AF0F-4163-8954-FA1375EAB92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5D752-0894-4A52-AD73-A5856EC0379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E2426-6CDB-4555-9266-568E62D849D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F38BF-2065-435E-B3F9-0DE918DD3D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693D1-D56D-43DE-8813-C0FC7BB3114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796B3-BA48-48E2-9828-7735965A434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1E61C-7C9F-496D-8603-A33C07E0A8E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A1C3-D6F5-4971-873C-E1FE1DA9841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4BB8-E253-4296-81E1-E05A7CDA246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3065-4E31-4FF1-8A63-62F93CA10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E96C-BEB0-4777-9376-EE311BD2B2F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706E-9D97-4BD9-90D2-3FB50251843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A385-9578-465A-ADF6-D5AD1BAFEB9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10C7-3E45-46C9-9E18-BE261977567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5764-16E3-4B72-9414-59D847CFD56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E6D7-2CAE-49CB-B21A-EB9F3942B3D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F2E0-8DC4-44A2-82BF-B7D35A8F8EA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7682-A17C-4B0C-BE99-0F5A3DB8EDA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4C26-215E-46A8-9D61-A44B2E44A4F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774D20-7D10-4474-A4C5-DD74B11CBA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86B8E3-BD0E-4933-B045-EC678544BB0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49D55D-A00B-4349-AA50-460EDE05EC2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D2004E-89B8-4776-9E54-99F8DB991F8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A824F2-F075-4A30-A7C8-F5D1E1BCEAF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145005-FD73-4058-A18B-83BE8F30387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799FA9-E3AA-4AE0-9849-D0EFC749518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4A3F8A-B3FD-4E16-9C2D-F38D46FD783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E40CF2-5A37-4825-88FA-EAF2149DCD0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09F4E4-8708-48BE-A0C4-544641F0E2B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BC124E-88FD-4BA3-9D6E-2B77FED220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C6C964-18D8-43DE-A835-801D5F1B3D5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E52F68-CA7C-4207-9D56-C05996B7AF4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947CB8-C12A-449B-8189-BC1636CA480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692BA8-E123-4E18-B95D-CDEC6480247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C71B00-4CEE-41C3-9474-D29FAD36DA3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8EB151-40D3-440F-9A1B-B289DC2456C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F9B58E-1DE4-4E6D-A13B-6DA56A23BE1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5B500C-9C2C-477F-ADA6-4F7C3BA7E8D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A29704-7E93-4EFC-AF4A-14C9EE206D1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E658C8-F992-4694-8661-BE6705D1B7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7C22A3-0633-4AF7-AA28-8D9B22E5BAA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C56C5B-8146-4BC1-B685-4BC88D6A183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CBE569-FC18-48C9-B009-AE4CF379B60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AB2AE-D51B-4E6A-91A9-1C1630D7CAF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CBFDB-45B2-4BA3-94AB-96AAC8D9BA3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BABA1-2B1A-44AD-BBEA-0BECF06806B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CD9EE-3311-478C-86DD-39F643AB713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8292C-7AC8-45A3-B1D9-D91C9878553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866BF-CD31-4743-B1D5-5C43FDE9784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836F5-E6AE-4A56-A45D-9F7A08989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73F5B-2F0B-4C07-99F3-C436263EF29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7859F-8C23-4CEE-A727-4CDB53781CD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59203-0657-484B-B0DE-CCD357159BE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8A804-5298-4E6B-8223-9FB45D198D8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1F090-6371-4502-900B-0034CF5BB39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72351E-26BE-4CBA-B637-AA60ADF3181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6ABBF2-A6EE-4741-B7F4-54E887AA522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2C8165-86C0-42E6-9D83-47E0EC2B502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C5BCB2-C278-4A14-AA95-EFDA7A5979B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3C979E-61EB-4AE0-B96B-2678AB5D4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966DF5-B0B0-416F-B6C4-FC1A2B12E31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81E94E-F200-45A7-86EB-CDA87E3CBCF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730D40-1CB5-4AFD-946A-AD2CFEE1AF5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43E79B-1D4A-4BC8-8CCE-BAEAD82E184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DA972B-BD95-4720-8A11-E7E792D565A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858AE1-8E94-4564-8CFD-8A31BDF79AF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0CDB7D-D423-47EF-833E-0D9354344E7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02D8AD-50CC-40F9-975A-48527A76F1E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D5E028-DD71-4663-886D-84BCEEA04B0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5E42E1-0605-4597-BD54-D639171272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20611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rcRect l="0" t="0" r="0" b="20611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ftr" idx="17"/>
          </p:nvPr>
        </p:nvSpPr>
        <p:spPr>
          <a:xfrm>
            <a:off x="12240" y="6591240"/>
            <a:ext cx="555948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Presentazione test ammissione facoltà architettura e design a.a.06707presentazione test di ammissione alle facolt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ldNum" idx="18"/>
          </p:nvPr>
        </p:nvSpPr>
        <p:spPr>
          <a:xfrm>
            <a:off x="6972480" y="6400800"/>
            <a:ext cx="190152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5276E-572E-4614-8CDD-36877B6BAACE}" type="slidenum"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rcRect l="0" t="0" r="0" b="20611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ftr" idx="19"/>
          </p:nvPr>
        </p:nvSpPr>
        <p:spPr>
          <a:xfrm>
            <a:off x="12240" y="6591240"/>
            <a:ext cx="555948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ffffff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DejaVu Sans"/>
              </a:rPr>
              <a:t>Presentazione test ammissione facoltà architettura e design a.a.06707presentazione test di ammissione alle facolt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Num" idx="20"/>
          </p:nvPr>
        </p:nvSpPr>
        <p:spPr>
          <a:xfrm>
            <a:off x="6972480" y="6400800"/>
            <a:ext cx="190152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ffffff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87E57-E12F-478B-88A1-D7E50FBEC079}" type="slidenum">
              <a:rPr b="0" lang="it-IT" sz="2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rcRect l="0" t="0" r="0" b="20611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ftr" idx="1"/>
          </p:nvPr>
        </p:nvSpPr>
        <p:spPr>
          <a:xfrm>
            <a:off x="12240" y="6591240"/>
            <a:ext cx="555948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Presentazione test ammissione facoltà architettura e design a.a.06707presentazione test di ammissione alle facolt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972480" y="6400800"/>
            <a:ext cx="190152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31EEE-CE33-452D-9652-4D89F715EFC2}" type="slidenum"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0" t="0" r="0" b="20611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ftr" idx="3"/>
          </p:nvPr>
        </p:nvSpPr>
        <p:spPr>
          <a:xfrm>
            <a:off x="12240" y="6591240"/>
            <a:ext cx="555948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Presentazione test ammissione facoltà architettura e design a.a.06707presentazione test di ammissione alle facolt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4"/>
          </p:nvPr>
        </p:nvSpPr>
        <p:spPr>
          <a:xfrm>
            <a:off x="6972480" y="6400800"/>
            <a:ext cx="190152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270EB-C662-42D0-AFFA-358A334A46AA}" type="slidenum"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0" t="0" r="0" b="20611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ftr" idx="5"/>
          </p:nvPr>
        </p:nvSpPr>
        <p:spPr>
          <a:xfrm>
            <a:off x="12240" y="6591240"/>
            <a:ext cx="555948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Presentazione test ammissione facoltà architettura e design a.a.06707presentazione test di ammissione alle facolt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Num" idx="6"/>
          </p:nvPr>
        </p:nvSpPr>
        <p:spPr>
          <a:xfrm>
            <a:off x="6972480" y="6400800"/>
            <a:ext cx="190152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212B7-C0A8-419D-B663-060B558C46DE}" type="slidenum"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rcRect l="0" t="0" r="0" b="20611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ftr" idx="7"/>
          </p:nvPr>
        </p:nvSpPr>
        <p:spPr>
          <a:xfrm>
            <a:off x="12240" y="6591240"/>
            <a:ext cx="555948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Presentazione test ammissione facoltà architettura e design a.a.06707presentazione test di ammissione alle facolt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Num" idx="8"/>
          </p:nvPr>
        </p:nvSpPr>
        <p:spPr>
          <a:xfrm>
            <a:off x="6972480" y="6400800"/>
            <a:ext cx="190152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1E6B2-E0B1-457F-A5FB-E42B06B22107}" type="slidenum"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rcRect l="0" t="0" r="0" b="20611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ftr" idx="9"/>
          </p:nvPr>
        </p:nvSpPr>
        <p:spPr>
          <a:xfrm>
            <a:off x="12240" y="6591240"/>
            <a:ext cx="555948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Presentazione test ammissione facoltà architettura e design a.a.06707presentazione test di ammissione alle facolt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Num" idx="10"/>
          </p:nvPr>
        </p:nvSpPr>
        <p:spPr>
          <a:xfrm>
            <a:off x="6972480" y="6400800"/>
            <a:ext cx="190152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049B2-4780-44A6-B5F0-A04D04DC7C18}" type="slidenum"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rcRect l="0" t="0" r="0" b="20611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ftr" idx="11"/>
          </p:nvPr>
        </p:nvSpPr>
        <p:spPr>
          <a:xfrm>
            <a:off x="12240" y="6591240"/>
            <a:ext cx="555948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Presentazione test ammissione facoltà architettura e design a.a.06707presentazione test di ammissione alle facolt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Num" idx="12"/>
          </p:nvPr>
        </p:nvSpPr>
        <p:spPr>
          <a:xfrm>
            <a:off x="6972480" y="6400800"/>
            <a:ext cx="190152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CA9D7-0BD9-45C6-9679-8333CC6C3A2A}" type="slidenum"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rcRect l="0" t="0" r="0" b="20611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ftr" idx="13"/>
          </p:nvPr>
        </p:nvSpPr>
        <p:spPr>
          <a:xfrm>
            <a:off x="12240" y="6591240"/>
            <a:ext cx="555948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Presentazione test ammissione facoltà architettura e design a.a.06707presentazione test di ammissione alle facolt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Num" idx="14"/>
          </p:nvPr>
        </p:nvSpPr>
        <p:spPr>
          <a:xfrm>
            <a:off x="6972480" y="6400800"/>
            <a:ext cx="190152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F8CAC-6D33-450D-ADA1-00AD971359A3}" type="slidenum"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rcRect l="0" t="0" r="0" b="20611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ftr" idx="15"/>
          </p:nvPr>
        </p:nvSpPr>
        <p:spPr>
          <a:xfrm>
            <a:off x="12240" y="6591240"/>
            <a:ext cx="555948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Presentazione test ammissione facoltà architettura e design a.a.06707presentazione test di ammissione alle facolt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Num" idx="16"/>
          </p:nvPr>
        </p:nvSpPr>
        <p:spPr>
          <a:xfrm>
            <a:off x="6972480" y="6400800"/>
            <a:ext cx="190152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3CC91-27C1-464E-B609-9F43B31824A9}" type="slidenum"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39640" y="1341360"/>
            <a:ext cx="8215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rso: </a:t>
            </a:r>
            <a:r>
              <a:rPr b="1" lang="it-IT" sz="2000" spc="-1" strike="noStrike">
                <a:solidFill>
                  <a:srgbClr val="ff3300"/>
                </a:solidFill>
                <a:latin typeface="Verdana"/>
              </a:rPr>
              <a:t>La bellezza italiana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ocente: Prof. Alberto Cavall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emestre: 2°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ingua di erogazione: italian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° max studenti ammessi: 100 Polimi + 20 Erasmu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odalità d’esame per non frequentanti: S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984600" y="158760"/>
            <a:ext cx="49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Corsi a scelta di Area Umanistica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539640" y="3570120"/>
            <a:ext cx="828036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“bellezza” è un vantaggio competitivo che contribuisce a rendere una creazione attraente, desiderabile e di successo. La bellezza italiana, in particolare, è una componente essenziale della creatività legata al mondo del lusso e dell'eccellenza, che nel nostro Paese ha una lunga e prestigiosa storia: ma questa bellezza, lungi dall'essere solo una componente estetica e superficiale, si costruisce e si nutre di lavoro, impegno, tradizione e territorio, arte e mestiere. Diventa ulteriore espressione di un talento che caratterizza l'eccellenza della produzione italiana, e che non può fare a meno dei mestieri d'arte (di tradizione o di nuova generazione) che sono legati al territorio, e che dall'arte, dalla storia e dalla bellezza stessa dei territori traggono forza e identità, in un ideale circolo virtuoso. Comprendere come decodificare la “costruzione” di questa bellezza significa riconoscere nel patrimonio materiale e immateriale italiano un'infinita fonte di ispirazione non solo creativa, ma anche professionale e progettuale.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984600" y="158760"/>
            <a:ext cx="49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Corsi a scelta di Area Umanistica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468360" y="1008000"/>
            <a:ext cx="8459640" cy="54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Costruire la bellezza italiana: i mestieri d'arte alla radice del lusso, dell'eccellenza e della moda. La “bottega” di ieri e i “makers” di oggi. Testimonianza: Franco Cologni</a:t>
            </a:r>
            <a:endParaRPr b="1" lang="en-US" sz="11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1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INTERPRETAZIONE. La bellezza, la moda e il tessile. Lezione in collaborazione con la Fondazione Antonio Ratti. </a:t>
            </a:r>
            <a:endParaRPr b="1" lang="en-US" sz="11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stimonianza: Pino Grasso.</a:t>
            </a:r>
            <a:endParaRPr b="1" lang="en-US" sz="11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1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100" spc="-1" strike="noStrike">
                <a:solidFill>
                  <a:srgbClr val="000000"/>
                </a:solidFill>
                <a:latin typeface="Arial"/>
                <a:ea typeface="Arial"/>
              </a:rPr>
              <a:t>3. ORIGINALITÀ. La bellezza e l'ornamento: il gioiello, l'oreficeria, i metalli. </a:t>
            </a:r>
            <a:r>
              <a:rPr b="1" i="1" lang="it-IT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stimonianza: Rosa Maria Villani</a:t>
            </a:r>
            <a:endParaRPr b="1" lang="en-US" sz="11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1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INNOVAZIONE. La bellezza e la cura di sé: cosmetica, profumeria, cura del corpo, servizio alla persona. Testimonianza: Andrea Maffei</a:t>
            </a:r>
            <a:endParaRPr b="1" lang="en-US" sz="11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1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100" spc="-1" strike="noStrike">
                <a:solidFill>
                  <a:srgbClr val="000000"/>
                </a:solidFill>
                <a:latin typeface="Arial"/>
                <a:ea typeface="Arial"/>
              </a:rPr>
              <a:t>5. ARTIGIANALITÀ. La bellezza e i mestieri tradizionali: il vetro, la ceramica, il legno. </a:t>
            </a:r>
            <a:r>
              <a:rPr b="1" i="1" lang="it-IT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stimonianza: Ugo La Pietra + Pierluigi Ghianda</a:t>
            </a:r>
            <a:endParaRPr b="1" lang="en-US" sz="11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1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100" spc="-1" strike="noStrike">
                <a:solidFill>
                  <a:srgbClr val="000000"/>
                </a:solidFill>
                <a:latin typeface="Arial"/>
                <a:ea typeface="Arial"/>
              </a:rPr>
              <a:t>6. CREATIVITÀ e AUTENTICITÀ. La bellezza e il restauro. </a:t>
            </a:r>
            <a:r>
              <a:rPr b="1" i="1" lang="it-IT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stimonianza di Donatella Cavezzali</a:t>
            </a:r>
            <a:endParaRPr b="1" lang="en-US" sz="11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1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 TRADIZIONE. La bellezza e i patrimoni immateriali. Testimonianza: Virginia Villa</a:t>
            </a:r>
            <a:endParaRPr b="1" lang="en-US" sz="11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1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 TALENTO. La bellezza e lo spettacolo. Testimonianza: Eugenio Monti Colla</a:t>
            </a:r>
            <a:endParaRPr b="1" lang="en-US" sz="11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1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100" spc="-1" strike="noStrike">
                <a:solidFill>
                  <a:srgbClr val="000000"/>
                </a:solidFill>
                <a:latin typeface="Arial"/>
                <a:ea typeface="Arial"/>
              </a:rPr>
              <a:t>9. TERRITORIALITÀ. La bellezza e il paesaggio: gli agrumi, il paesaggio, la floricoltura. </a:t>
            </a:r>
            <a:r>
              <a:rPr b="1" i="1" lang="it-IT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stimonianza: Giorgio Boatti</a:t>
            </a:r>
            <a:endParaRPr b="1" lang="en-US" sz="11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1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 COMPETENZA. Alimentazione e bellezza: siamo ciò che mangiamo? </a:t>
            </a:r>
            <a:endParaRPr b="1" lang="en-US" sz="11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'arte della cucina come cultura e come capacità di rispondere alle sfide alimentari del futuro.</a:t>
            </a:r>
            <a:endParaRPr b="1" lang="en-US" sz="11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stimonianza: Andrea Sinigaglia</a:t>
            </a:r>
            <a:endParaRPr b="1" lang="en-US" sz="11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1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. I mestieri d'arte come veicolo di valore e di bellezza. Testimonianza: Maurizio di Robilant.</a:t>
            </a:r>
            <a:endParaRPr b="1" lang="en-US" sz="11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entuale lezione in più: visita guidata a 3 botteghe / atelier milanesi.</a:t>
            </a:r>
            <a:endParaRPr b="1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3:48:10Z</dcterms:created>
  <dc:creator>Silvia</dc:creator>
  <dc:description/>
  <dc:language>en-US</dc:language>
  <cp:lastModifiedBy>Francesca Onofri</cp:lastModifiedBy>
  <cp:lastPrinted>2003-05-08T11:08:41Z</cp:lastPrinted>
  <dcterms:modified xsi:type="dcterms:W3CDTF">2014-07-09T09:41:27Z</dcterms:modified>
  <cp:revision>207</cp:revision>
  <dc:subject/>
  <dc:title>Inserire immagine della locandina, possibilmente in trasparenza e aggiungere Facoltà di Architettura Illustrazione prova di ammissione prof. Silvia Piardi (idem Cedolin)</dc:title>
</cp:coreProperties>
</file>